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D3B2-92FC-4857-82BB-F0B77B67F5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9A47-DD6E-4B7C-8AD8-35D5515473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9F64-6DFD-4E6A-B286-F8139D85B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81A2-CE20-43F3-9AEA-7445FC56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08BB-9316-49B1-9A93-5F2BD7D7D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6CB3-F7D5-4F79-A622-0929E0564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3F85-A91D-410F-BB43-86D3B509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B79C-2E2C-464C-82B6-C12EDAF4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ECEB-E2CC-45A3-B30E-8DA89028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C98C-3C12-4FDF-9FDA-125BAD39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00BB-0A96-47F0-A9EE-2752CF94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E1DB-3B47-4012-B7E3-46679BE7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CF19-1105-4C64-A101-26375B51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EBBC-7059-41BE-8D7A-25850F71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2EB7-D26B-401E-AD5E-1DA19D6C12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5T09:27:21Z</dcterms:created>
  <dc:creator>Viktor R.</dc:creator>
  <dc:description/>
  <dc:language>en-US</dc:language>
  <cp:lastModifiedBy>Viktor R.</cp:lastModifiedBy>
  <dcterms:modified xsi:type="dcterms:W3CDTF">2015-09-05T09:27:59Z</dcterms:modified>
  <cp:revision>1</cp:revision>
  <dc:subject/>
  <dc:title>PowerPoint Presentation</dc:title>
</cp:coreProperties>
</file>